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3599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599-A390-4CD4-AE20-426EAE87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66480"/>
            <a:ext cx="8424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24A-F97D-4EDA-81AF-573D225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6648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5480" y="396648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894-B19C-4FEB-9E31-EAACE398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7040" y="159984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6648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7040" y="396648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65720" y="396648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9FE-0349-442F-B5EF-1F1D2C0B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BD03-4CB5-435D-91FA-9165ADD8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836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0CB1-62A5-4631-8FCD-E08D5855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C8F0-B1FB-4B77-9280-68A9234B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3861-212C-4425-AB23-F1D5851D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85F-D38D-4A78-9D34-AA7E95FB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8360" y="277560"/>
            <a:ext cx="84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664-A502-4F1E-904E-5C149D62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396648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3E95-8941-427C-89EB-8A21568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310-11C2-4200-B964-3940384E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85480" y="396648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8D14-F685-4D1D-9FB3-C09998CB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3966480"/>
            <a:ext cx="8424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19F5-A553-4E79-9ED6-37126E9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360" y="3966480"/>
            <a:ext cx="8424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233E-28E7-41C4-B8A5-CCF19F99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360" y="396648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85480" y="396648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A1E-DAA7-43E7-935C-0A149C76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7040" y="159984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360" y="396648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7040" y="396648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65720" y="3966480"/>
            <a:ext cx="271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9E18-07CB-4D2D-A0DA-CB631422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D5C-E9F9-44B9-84FB-153C6ED0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5E1-38B2-4C10-8E2C-C625FB52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E41-D44B-45A0-AD01-4EB4562A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77560"/>
            <a:ext cx="842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F3D-55BF-4149-B583-CB73757C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6648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2A8-1D88-421D-90DE-E33D84C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5480" y="396648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D7E-657F-4E83-A5B9-8B4BD734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5480" y="1599840"/>
            <a:ext cx="411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66480"/>
            <a:ext cx="8424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3C1-B192-427F-ABED-7BAEABC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361080" cy="6856560"/>
            <a:chOff x="0" y="0"/>
            <a:chExt cx="936108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35784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41920" y="0"/>
              <a:ext cx="911592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56244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562440" y="5678640"/>
              <a:ext cx="27954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77492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74920" y="5877000"/>
              <a:ext cx="15829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881680" y="6056280"/>
              <a:ext cx="347616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88168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407760" y="6418440"/>
              <a:ext cx="40856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076160" y="6141960"/>
              <a:ext cx="228168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174880" y="5002200"/>
              <a:ext cx="118296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817488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174880" y="4840200"/>
              <a:ext cx="118296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817488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728160" y="0"/>
              <a:ext cx="513396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832960" y="4289400"/>
              <a:ext cx="5245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901360" y="4108320"/>
              <a:ext cx="45648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988080" y="0"/>
              <a:ext cx="50904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143280" y="4022640"/>
              <a:ext cx="2142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057640" y="0"/>
              <a:ext cx="40856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68560" y="0"/>
              <a:ext cx="35722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221400" y="3927600"/>
              <a:ext cx="13608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106200" y="1349280"/>
              <a:ext cx="2516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299800" y="0"/>
              <a:ext cx="931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794080" y="0"/>
              <a:ext cx="5540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260640" y="1036800"/>
              <a:ext cx="9720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3484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35172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3484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3484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107440" y="0"/>
              <a:ext cx="724392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397480" y="0"/>
              <a:ext cx="39542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419520" y="0"/>
              <a:ext cx="293220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344360" y="0"/>
              <a:ext cx="201528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628760" y="0"/>
              <a:ext cx="172296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8095320" y="0"/>
              <a:ext cx="126432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357480" cy="2949480"/>
              <a:chOff x="0" y="2590920"/>
              <a:chExt cx="935748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96448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925240" y="4437000"/>
                <a:ext cx="34322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68360" y="6243480"/>
            <a:ext cx="21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98600" y="6248520"/>
            <a:ext cx="29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708600" y="6243480"/>
            <a:ext cx="21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12BC-D642-43CE-AB45-A3BC36F95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361080" cy="6856560"/>
            <a:chOff x="0" y="0"/>
            <a:chExt cx="936108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35784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41920" y="0"/>
              <a:ext cx="911592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56244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562440" y="5678640"/>
              <a:ext cx="27954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77492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774920" y="5877000"/>
              <a:ext cx="15829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881680" y="6056280"/>
              <a:ext cx="347616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88168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407760" y="6418440"/>
              <a:ext cx="40856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7076160" y="6141960"/>
              <a:ext cx="228168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8174880" y="5002200"/>
              <a:ext cx="118296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817488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8174880" y="4840200"/>
              <a:ext cx="118296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817488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728160" y="0"/>
              <a:ext cx="513396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832960" y="4289400"/>
              <a:ext cx="5245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901360" y="4108320"/>
              <a:ext cx="45648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988080" y="0"/>
              <a:ext cx="50904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9143280" y="4022640"/>
              <a:ext cx="2142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5057640" y="0"/>
              <a:ext cx="40856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668560" y="0"/>
              <a:ext cx="35722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221400" y="3927600"/>
              <a:ext cx="13608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9106200" y="1349280"/>
              <a:ext cx="2516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299800" y="0"/>
              <a:ext cx="931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794080" y="0"/>
              <a:ext cx="5540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260640" y="1036800"/>
              <a:ext cx="9720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3484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35172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3484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3484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107440" y="0"/>
              <a:ext cx="724392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397480" y="0"/>
              <a:ext cx="39542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419520" y="0"/>
              <a:ext cx="293220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344360" y="0"/>
              <a:ext cx="201528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628760" y="0"/>
              <a:ext cx="172296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8095320" y="0"/>
              <a:ext cx="126432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357480" cy="2949480"/>
              <a:chOff x="0" y="2590920"/>
              <a:chExt cx="935748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96448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925240" y="4437000"/>
                <a:ext cx="34322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68360" y="6243480"/>
            <a:ext cx="21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98600" y="6248520"/>
            <a:ext cx="29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708600" y="6243480"/>
            <a:ext cx="21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79DA-EF06-41C4-B326-25ADB7C8EA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33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1640" y="277920"/>
            <a:ext cx="846144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рифная политика по жилищно-коммунальным услугам в 2013 г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7640" y="3860280"/>
            <a:ext cx="8245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ый заместитель министра строительства, архитектуры и жилищно-коммунального хозяйства Республики Марий Эл  Е.В.Соко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47640" y="277920"/>
            <a:ext cx="82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рифы для организаций коммунального комплек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1.07.2013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04720" y="1557360"/>
          <a:ext cx="8280360" cy="5033880"/>
        </p:xfrm>
        <a:graphic>
          <a:graphicData uri="http://schemas.openxmlformats.org/drawingml/2006/table">
            <a:tbl>
              <a:tblPr/>
              <a:tblGrid>
                <a:gridCol w="2806920"/>
                <a:gridCol w="2714400"/>
                <a:gridCol w="275904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ы услу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оответствии с приказами Ф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оответствии с приказами Р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снабжение, водоотведение, очистка сточных в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9,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8,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пловая энер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,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ктрическая энер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2,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2,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ктрическая энергия (сельское население и дома с электроплитам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2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2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 (природный и сжиженны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рифная поли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 коммунальным услугам в 2013 год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оручение Д. Козака от 1.03.2013 г № ДК-П9-13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допущение роста платы граждан за КУ в 2013 г. более чем на 6% в среднегодовом исчислении к декабрю 2012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ва этапа регулирования тариф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 1.01.2013 г. – 30.06.2013 г. – отсутствие р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 1.07.2013 г. – 31.12.2013 г. – рост н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ем на 1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тие необходимых решений субъектами РФ в срок до 25.03.201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960720" y="4941720"/>
            <a:ext cx="108108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260280"/>
            <a:ext cx="8425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поряжения Правительства РМЭ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19.03.2013 г. № 145-р (с изменениям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 5.08.2013 г. № 455-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5640" y="1267920"/>
            <a:ext cx="90010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комендовано администрациям МО и исполнителям коммунальных услуг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сохранить уровни оплаты населением КУ по холодному и горячему водоснабжению, водоотведению, отоплению с 1 января 2013 г. на уровне декабря 2012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установить в период с 1 июля 2013 г. по 31 декабря 2013 г. уровни оплаты населением коммунальных услуг по холодному и горячему водоснабжению, воджоотведению, отоплению, обеспечивающие надопущение роста платы граждан за коммунальные услуги с 1 июля 2013 г. более чем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15% к декабрю 2012 г. – по жилищному фонду, где в структуре совокупной платы граждан за коммунальные услуги преобладает плата за коммунальнрые услуги по электроснабжению и гозоснабж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12% к декабрю 2012 г. – по прочему жилищному фонду, за исключением жилищного фонда бывших военных городков, инфраструктура которых передана в муниципальную собственность, по которым предельный уровень роста платы граждан за коммунальные услуги определяется по согласованию с Федеральной службой по тариф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9080" y="476280"/>
            <a:ext cx="86040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ановление Правительства Республики Марий Эл от 22 июля 2013 г. № 227 «Об утверждении Правил предоставления компенсации при  превышении допустимого роста платы граждан за коммунальные услуги на 2013 год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4720" y="3357360"/>
            <a:ext cx="82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ельный срок обращения за компенсацией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июля 2014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щаться необходимо в территориальные органы социальной защиты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929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ведения о предоставлении компенсаций граждан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04720" y="1413000"/>
          <a:ext cx="8388360" cy="4973400"/>
        </p:xfrm>
        <a:graphic>
          <a:graphicData uri="http://schemas.openxmlformats.org/drawingml/2006/table">
            <a:tbl>
              <a:tblPr/>
              <a:tblGrid>
                <a:gridCol w="2097360"/>
                <a:gridCol w="2097000"/>
                <a:gridCol w="2097000"/>
                <a:gridCol w="2097000"/>
              </a:tblGrid>
              <a:tr h="122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за 2010 г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за 2011 г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за 2012 г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состоянию на 01.10.2013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едусмот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ено в бюджете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тыс. руб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5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7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9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Кассовые расходы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5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Количество получателей, (</a:t>
                      </a: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ел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0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9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6:01:20Z</dcterms:created>
  <dc:creator>Kolosova</dc:creator>
  <dc:description/>
  <dc:language>en-US</dc:language>
  <cp:lastModifiedBy>Соколов Е.В.</cp:lastModifiedBy>
  <cp:lastPrinted>2013-10-22T06:02:47Z</cp:lastPrinted>
  <dcterms:modified xsi:type="dcterms:W3CDTF">2013-10-25T06:34:12Z</dcterms:modified>
  <cp:revision>103</cp:revision>
  <dc:subject/>
  <dc:title>Слайд 1</dc:title>
</cp:coreProperties>
</file>